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08B30-6794-421C-9A3E-A05BBDE1A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10CCD-0E06-4649-8198-27C19C9BC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B8082-5B8B-4159-AD34-930DD69FE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9A20F-CB63-40DD-8B56-5CEDB65AF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D2C06-8D57-4161-8B83-6544E0F5B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DE048-2FCB-4312-AD99-F0B8BDA23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EC281-1E10-46B2-9880-1A46EDA25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4E340-5490-49A1-9607-93249F33A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96DD3-4485-4F58-8CB9-52AF73CDD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81179-8DD3-4A2C-BF06-614B2327A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D25C0-E8C7-47B6-8881-5581EB80A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E35BA-789F-4CC3-B9D0-F47B6C08D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32751-2158-4350-8A46-4FCFA30B5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BFCF1-CB68-401C-9BE7-077CDF2BF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30F6B-552C-4880-9AC8-4B616B890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C8543-0D0C-457F-A9C9-BDFD890E7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0CB0F-C233-49D9-A847-65B6AAD7F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BEEE6-77CE-463A-BB59-79BFF2CBE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A8D7F-FC9A-4C57-9E66-0B4C0B101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D1AF7-D5FF-430C-A7C9-F1AEBFDDC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0B756-A876-472F-A988-47802C000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26932-630C-4DC3-85EC-FFD91AFD8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847EF-08B5-4ED0-8999-D3C6EC1F0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9E176-93B6-4C98-A6BC-9538ACAD1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B0D22-CB56-43AD-B3FB-81EE64151C3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6A82D-AD64-4371-B857-B0B365E950C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gestion in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Network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ckpress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de becomes congested it can slow down or halt flow of packets from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mean that other nodes have to apply control on incoming packe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es back to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restrict to logical connections generating most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connection oriented that allow hop by hop congestion control (e.g. X.2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used in ATM nor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cently developed for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ke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acke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d at congested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urce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CMP source quen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m router or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urce cuts back until no more source quench mess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t for every discarded packet, or anticipa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her crud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delay may increas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ay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can detect these as implicit indications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on connectionless (datagram)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P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TCP includes congestion and flow control - see chapter 17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frame relay LA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increas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take steps to reduce offer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opposite direction to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same direction as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tegories of 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it set in a packet indicat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how many packets source may 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for end to e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ly explicit data rate li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want different treatment for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ffic contract between user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in Packet Switche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control packet to some or all source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dditional traffic during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on 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act too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probe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s to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 congestion info to packets as they cross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backwards or forw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, small cell size, limited overhead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ill evol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jority of traffic not amenable to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slow due to reduced transmission time compared with 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 range of application de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traffic patter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network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 switching and transmission increases volat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tency/Speed Eff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15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~2.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econds to insert single c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traverse network depends on propagation delay, switching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propagation at two-thirds speed of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source and destination on opposite sides of USA, propagation time ~ 4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3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n implicit congestion control, by the time dropped cell notification has reached source, 7.2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have been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, this is not a good strategy fo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TM voice/video, data is a stream of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across network must be sh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of delivery must be cons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will always be some variation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cell delivery to application so that constant bit rate can be maintained to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at Is Congestion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occurs when the number of packets being transmitted through the network approaches the packet handling capacity of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 aims to keep number of packets below level at which performance falls off dramatic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network is a network of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80% utilization is cri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queues mean data may be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Re-assembly of CBR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6522"/>
          <a:stretch/>
        </p:blipFill>
        <p:spPr>
          <a:xfrm>
            <a:off x="609480" y="1447920"/>
            <a:ext cx="7925040" cy="48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Contribution 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ing 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deci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above but to lesser ext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than 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protocol designed to minimize processing overheads at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switches have very 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oticeable delay is from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not accept load that caus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 The UN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produces data at fixed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ing at three layers of ATM causes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leaving cells from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ion and maintenance cell interleav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using synchronous digital hierarchy frames, these are inserted at 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predict these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igins of 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3014"/>
          <a:stretch/>
        </p:blipFill>
        <p:spPr>
          <a:xfrm>
            <a:off x="533520" y="1371600"/>
            <a:ext cx="8001000" cy="52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and 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rame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layer traffic and congestion control should support QoS classes for all foreseeable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not rely on AAL protocols that are network specific, nor higher level application specific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minimize network and end to end system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s Conside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inser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trip 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d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te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whether a given new connection can be accommod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ree performance parameters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 and Congestion Control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management using virtu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ge paramete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cell disc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sha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Management Using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traffic flow according to service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 wi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loss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transf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CCs and VP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1822"/>
          <a:stretch/>
        </p:blipFill>
        <p:spPr>
          <a:xfrm>
            <a:off x="914400" y="1371600"/>
            <a:ext cx="6477120" cy="54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locating VCCs within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VCCs within VPC should experience similar 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 for allo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peak de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es at a N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863"/>
          <a:stretch/>
        </p:blipFill>
        <p:spPr>
          <a:xfrm>
            <a:off x="1752480" y="1371600"/>
            <a:ext cx="5715000" cy="54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Admiss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line of def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specifies traffic characteristics for new connection (VCC or VPC) by selecting a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pts connection only if it can meet the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age Paramete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itor connection to ensure traffic cinforms to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of network resources from overload by on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VCC and VP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cell rate and cell delay var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tainable cell rate and burst toler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cells that do not conform to 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ed traffic poli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Shap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ooth out traffic flow and reduce cell clu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bu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606"/>
          <a:stretch/>
        </p:blipFill>
        <p:spPr>
          <a:xfrm>
            <a:off x="533520" y="1752480"/>
            <a:ext cx="8001000" cy="43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-ABR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applications (Web, file transfer) do not have well defined traffic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 these applications to share unused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congestion builds, cells are dropp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d loop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 connections share available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re varies between minimum cell rate (MCR) and peak cell rate (PC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 flow limited to available capacity by feed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absorb excess traffic during feedback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ell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eedback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ate characteristic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ed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ACR=I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just ACR based on feedback from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 management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gestion indication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increase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licit cell rate fiel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iations in Allowed Cell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1523880" y="1371600"/>
            <a:ext cx="63248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36780"/>
          <a:stretch/>
        </p:blipFill>
        <p:spPr>
          <a:xfrm>
            <a:off x="533520" y="1700280"/>
            <a:ext cx="8001000" cy="25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te Control Feed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CI (Explicit forward congestion indication)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tive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disc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antain agreed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probability of one end user mono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overhead on network or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ate minimal additional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 resources fair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spread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rate effectively regardless of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impact on other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variance in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Conges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riving are stored at input buff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 m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oves to outpu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queued for output transmitted as fast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packets arrive to fast to be routed, or to be output, buffers will fi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discard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propagate congestion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avoid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icit signal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Rate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discard frames to cop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ily, no regard for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eward for restraint so end systems transmit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itted information rate (CI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excess of this liable to discar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 guarante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gate CIR should not exceed physical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itted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ss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C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31978"/>
          <a:stretch/>
        </p:blipFill>
        <p:spPr>
          <a:xfrm>
            <a:off x="1219320" y="1738440"/>
            <a:ext cx="6933960" cy="37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ationship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o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407"/>
          <a:stretch/>
        </p:blipFill>
        <p:spPr>
          <a:xfrm>
            <a:off x="3838680" y="152280"/>
            <a:ext cx="53053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grow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handler monitors its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notify some or all logica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respons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action of Que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11111"/>
          <a:stretch/>
        </p:blipFill>
        <p:spPr>
          <a:xfrm>
            <a:off x="1523880" y="1828800"/>
            <a:ext cx="606744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de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021200" y="0"/>
            <a:ext cx="5122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actical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al assumes infinite buffers and no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ffers are fin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s occur in exchanging congestion control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7475"/>
          <a:stretch/>
        </p:blipFill>
        <p:spPr>
          <a:xfrm>
            <a:off x="4094280" y="0"/>
            <a:ext cx="5049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sm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33166"/>
          <a:stretch/>
        </p:blipFill>
        <p:spPr>
          <a:xfrm>
            <a:off x="457200" y="2244600"/>
            <a:ext cx="807732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4T09:59:24Z</dcterms:created>
  <dc:creator>Adrian &amp; Wendy</dc:creator>
  <dc:description/>
  <dc:language>en-US</dc:language>
  <cp:lastModifiedBy>Adrian &amp; Wendy</cp:lastModifiedBy>
  <dcterms:modified xsi:type="dcterms:W3CDTF">1999-11-15T10:16:40Z</dcterms:modified>
  <cp:revision>67</cp:revision>
  <dc:subject/>
  <dc:title>William Stallings Data and Computer Communications</dc:title>
</cp:coreProperties>
</file>